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944353"/>
        <c:axId val="80524134"/>
      </c:barChart>
      <c:catAx>
        <c:axId val="63944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24134"/>
        <c:crosses val="autoZero"/>
        <c:auto val="1"/>
        <c:lblAlgn val="ctr"/>
        <c:lblOffset val="100"/>
        <c:noMultiLvlLbl val="0"/>
      </c:catAx>
      <c:valAx>
        <c:axId val="805241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944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DB1-D7F8-4DE2-984E-6B2DE3A38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8052-7FAD-4E83-9EA8-256D2E65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D592-D800-4B6D-8D91-B07E47A8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01BC-3514-4498-9AF5-E14ECF17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2200-1326-4002-8015-2A2BDB47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30E-C42D-4E84-BD19-88F14135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8549-B76C-4B30-BE2A-36187BFC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29B-DD23-491C-B2F6-C7470771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72E-0B79-44A4-9FBC-9DFE7968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FD4-ACF5-4985-ACDA-FA129329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0D77-A7D4-421E-B758-7BBA23C6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7EC0-3F94-4DD5-A683-46E1FB68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C94F9-5D5B-4BAC-998A-D3758A1BED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