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939977"/>
        <c:axId val="64220526"/>
      </c:barChart>
      <c:catAx>
        <c:axId val="489399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20526"/>
        <c:crosses val="autoZero"/>
        <c:auto val="1"/>
        <c:lblAlgn val="ctr"/>
        <c:lblOffset val="100"/>
        <c:noMultiLvlLbl val="0"/>
      </c:catAx>
      <c:valAx>
        <c:axId val="642205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9399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8007-C0BE-446F-B1A8-3A3A9959E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9F5E-BC18-4B12-8B8F-3B316960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E341-B212-471C-971C-FDF4A922A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4A1E-C401-45C7-83D8-2048F3F76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B81F-4E25-4043-BF17-C3EE0ECF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AD64-A091-4242-B406-870A524C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BA7E-B2F2-4EBB-80E9-7B8CFCA1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949F-EA79-4CB1-8BCE-30980EE3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332C-F45E-4D3A-9B6A-BED2B2C7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A4D8-A176-4D05-9EDE-4F167392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C440-022B-4479-8B9A-C0B57714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EB8F-A1B9-4D45-AC45-11A6EE58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3C7CB-CDEE-44FC-9573-F9F6E24D1B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