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8590"/>
        <c:axId val="60761270"/>
      </c:barChart>
      <c:catAx>
        <c:axId val="858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61270"/>
        <c:crosses val="autoZero"/>
        <c:auto val="1"/>
        <c:lblAlgn val="ctr"/>
        <c:lblOffset val="100"/>
        <c:noMultiLvlLbl val="0"/>
      </c:catAx>
      <c:valAx>
        <c:axId val="60761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FC4-93F3-434F-A7EF-960650EF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37B-3664-4FAF-BA69-FC8E24E5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D75-9175-4934-BAE5-34FB9E07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5F1-6F30-416F-8929-E50EE725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DBA-B51A-4666-809B-8869642B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343-9647-432B-A4D8-09538D2D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455-C054-47F2-A9CD-E4E1B337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31A-44F3-411A-9CA7-AC6F0AE1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D0E-93AF-43BA-A798-BF651EF3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049-D06E-4E05-8E6A-81E7DF4E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82B-B532-4A6E-B45C-AE8711A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52D-30F0-4D99-87B4-F9E1A90A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6F22-5D6C-4051-9D27-6C6924EFF1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