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71274"/>
        <c:axId val="67347581"/>
      </c:barChart>
      <c:catAx>
        <c:axId val="13171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47581"/>
        <c:crosses val="autoZero"/>
        <c:auto val="1"/>
        <c:lblAlgn val="ctr"/>
        <c:lblOffset val="100"/>
        <c:noMultiLvlLbl val="0"/>
      </c:catAx>
      <c:valAx>
        <c:axId val="67347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71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9C7-EF94-46CC-AF4C-498980FB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247-7E72-483D-9F85-399C9F02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E64-1EE7-4985-A43A-5438D87D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F2F-7BC2-4968-BF26-DA07AE44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D38-3A61-44EF-9764-D39CA462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71D-D21B-4AC7-9700-E5F7EAF2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CF5-A9B3-4292-8D7E-789F6AD5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411-9F91-47E9-983F-A2429AEF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95E-5AC7-4919-8943-1C663407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938-6394-4864-A2E3-F9BC8EBD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F6B-4C79-45FF-B3FA-60F987FF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D76-4F0C-4E5A-B4D7-4B8EB8C8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810B8-4548-481F-B714-B18BA3BC7A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