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23803"/>
        <c:axId val="31662979"/>
      </c:barChart>
      <c:catAx>
        <c:axId val="88923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62979"/>
        <c:crosses val="autoZero"/>
        <c:auto val="1"/>
        <c:lblAlgn val="ctr"/>
        <c:lblOffset val="100"/>
        <c:noMultiLvlLbl val="0"/>
      </c:catAx>
      <c:valAx>
        <c:axId val="31662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23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2F6-D35B-42F0-9378-A5DC1986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D79-20F8-46C7-92DC-53845890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672-B566-43E3-B12C-59F27BBF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AA2-B156-439C-9B7D-A47216E7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CE1-ADF5-4324-8149-8B1E8ACB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321-80FB-4291-AA43-5DAE6652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791-387E-47AD-8D61-935380BB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471-5221-417E-B257-D3A3DC17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6CD-AAE3-42C1-A2FF-D4990B40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FE5-D9FE-410C-8BD8-1080DFF4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576-816A-43E4-A635-169090FA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2C8-33BD-46B6-8006-BCD3073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99F57-DC43-4A79-B2B7-3A1FB4FE7B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