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09498"/>
        <c:axId val="76873202"/>
      </c:barChart>
      <c:catAx>
        <c:axId val="29209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73202"/>
        <c:crosses val="autoZero"/>
        <c:auto val="1"/>
        <c:lblAlgn val="ctr"/>
        <c:lblOffset val="100"/>
        <c:noMultiLvlLbl val="0"/>
      </c:catAx>
      <c:valAx>
        <c:axId val="76873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09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4CB-A0ED-4765-8C1C-CBB07A07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A57-D77E-458D-88E1-E2FD8505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97A-3255-4FAB-88B8-FF7A5F19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E8D-68A9-41C2-8F83-A164F7D1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ECC-EC40-46F7-92BA-6EA47740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423-31F2-4C91-ACAB-F64B6D6F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766-FAE3-42D7-B8EE-B9184423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A0A-33E8-4B5A-B31F-782ACA33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A48-9EF8-4766-9329-FF106EF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6F8-CA18-48F0-8449-FCCCA45F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49F-05F6-47F7-B3A0-14C8EF5A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C4A-7B48-4F15-9417-CC62ADE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DE44C-F144-4274-BFE9-0025656F50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