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446235"/>
        <c:axId val="14384944"/>
      </c:barChart>
      <c:catAx>
        <c:axId val="384462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384944"/>
        <c:crosses val="autoZero"/>
        <c:auto val="1"/>
        <c:lblAlgn val="ctr"/>
        <c:lblOffset val="100"/>
        <c:noMultiLvlLbl val="0"/>
      </c:catAx>
      <c:valAx>
        <c:axId val="143849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4462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F985-C1C1-4373-9982-CD941131F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C3FA-BBB6-48B1-9281-DAC25DFFC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D733-3F54-4917-9B1E-BD0845C02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ABBD-8D1C-4830-8819-BE7EC0054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BB52-DAD1-433E-98F5-47E4AFDC4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F72A-17E2-4397-8AE2-F1AD6B665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40FA-DB3A-42F2-9008-3D661FE7A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96CB-6FBA-4C4C-AE99-06CC6951E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B497-B720-4747-975C-1C3CB9746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A6A2-9D67-449C-95A7-508C2162A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5B3C-CCCE-4439-8B90-CE406795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BD97-306F-49A0-9477-C1D815D59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00EC76-5B8B-4141-8042-5F88D5A6054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