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706100" cy="75422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D982-2835-40DC-BAA9-7D41696BD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C5D8-CE51-4C46-9F02-6BC2993F7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74CE-7607-4B4D-9ED4-EFB5A93E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0215-C999-44F8-951D-4B8A5F8D8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21F0-6B57-43F8-BB6D-4D0D90523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ECF2C-D4A3-49A2-AFB6-41F7437864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A9CDF-5704-4630-BFD0-6627D7733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36B00-A0EA-406E-9A15-6DC39A73A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C34A5-760E-4C34-93E0-66EC419274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E4946-5D9D-4E50-9C1A-AAF63AD99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5D036-F930-4E7C-B798-696808462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75D6-E6E1-4304-A9A0-114597AC5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A167-D95D-4CA8-A332-8D03AB607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7DB5-0E68-4356-ADF1-DFBDE2E04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286E-84EE-4FFB-9ED1-B82429A25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A9F0-05AB-4DC9-8E08-834005216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C961-709D-46FF-9CF1-BCA5DABDF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8B6F-CD7C-42B9-BAF8-65E9018A2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1009-86EE-40F0-88D6-16AE45CDE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4F51-A26A-40E8-952E-C470C8E6C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B70E-D9BA-4B87-A6B3-7D529A63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B8AF-3E95-42C3-8DCA-A75A2ED60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C188-F9B5-4711-A4F8-4A78DEAC7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801A-AE51-487F-959C-B8B02240F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82680" indent="-3812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6240" indent="-3920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90512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66400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19000" y="6889680"/>
            <a:ext cx="3376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9000" y="7044840"/>
            <a:ext cx="3376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E52C24E3-7348-45D3-A6BA-DC34AF6CC6D9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6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 flipH="1">
            <a:off x="819000" y="6296040"/>
            <a:ext cx="9048960" cy="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578640" y="6867360"/>
            <a:ext cx="324000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9000" y="863640"/>
            <a:ext cx="90489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821880" y="6889680"/>
            <a:ext cx="3351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21880" y="7044840"/>
            <a:ext cx="33512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BA71F202-2417-4ECC-99E9-63A76DC485A7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1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52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78640" y="6870600"/>
            <a:ext cx="3240000" cy="500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535320" y="1764720"/>
            <a:ext cx="9635400" cy="43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440" indent="0" algn="ctr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92240" indent="56196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379440" indent="114624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574560" indent="171000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5920"/>
            <a:ext cx="3298680" cy="69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44840" y="4211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Rating-Kenn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der 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3280" y="25002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WORKSHOP 2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oderne Finanz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und Rating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stimmen das Rating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9000" y="1753920"/>
            <a:ext cx="90489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32640" indent="-33156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"harten" Faktoren, also die zahlenmäßige Darstellung des Unternehmens in Bilanz und GuV, bestimmen zum überwiegenden Teil das Ergebnis im Rating.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7560" y="470700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Je nach Branchenmodell und Umsatzgröße werden beim Mittelstandsrating zwischen 5 und 7 Kennzahlen verwendet um die verschiedenen Analysebereiche zu betracht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283536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444600" indent="1260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Gewichtung beim typischen Ratingverfahren der HypoVereinsbank für ein mittelständisches Unternehmen (Mittelstandsrating) beträgt 70 % Hard-facts zu 30% Soft-fac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leuchten Analysebereiche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8640" y="1834920"/>
            <a:ext cx="8999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Beispiel: Analysebereich Verschuldung / Vermögen</a:t>
            </a:r>
            <a:br>
              <a:rPr sz="1900"/>
            </a:b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               Produktionsunternehmen mit einem Umsatz &gt; € 10 Mio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2844720"/>
            <a:ext cx="9048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Finanzaufwands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560" y="4718160"/>
            <a:ext cx="9048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 Eigenkapital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2720" y="3348000"/>
            <a:ext cx="646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Zinsaufwand für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durchschnittliches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14560" y="5138640"/>
            <a:ext cx="6889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           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s Eigen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bereinigte Bilanzsumme – Grundstücke/Gebäu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sind nicht gleich gewichtet 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85880" y="395748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43040" y="1611360"/>
            <a:ext cx="4178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as Unternehmen wird gegen den Median der jeweiligen Kennzahl in seiner Branchengruppe gespiegelt.  Der farbige Balken zeigt an, welchen Einfluß die Abweichung vom Median auf die Bilanzbonitä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Prozentzahl sagt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 aus, wie stark das betrachtete Unternehmen vom Branchendurchschnitt bei der Kennzahl abweich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00840" y="5375160"/>
            <a:ext cx="396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Alle Prozentbeträge der Balken summieren sich betragsmäßig au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640" y="5100480"/>
            <a:ext cx="511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Richtung bzw. die Farbe des Balkens geben  an, ob es sich um eine negative (nach links / rot) oder positive (nach rechts / grün) Beeinflussung der Bilanzbonität h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24480" y="1549440"/>
            <a:ext cx="4394160" cy="34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" y="3122640"/>
            <a:ext cx="7351920" cy="316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appungsgrenzen verhindern Ausreiße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65400" y="1467000"/>
            <a:ext cx="6321600" cy="173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97560" y="3483000"/>
            <a:ext cx="792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45200" y="261936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2619360"/>
            <a:ext cx="22334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1200" y="1827360"/>
            <a:ext cx="3371760" cy="718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1200" y="2736720"/>
            <a:ext cx="3371760" cy="385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0640" y="5499000"/>
            <a:ext cx="115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Frutiger 55 Roman"/>
              </a:rPr>
              <a:t>** Maja 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Maschinell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Jahresabschlus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4600" y="14209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utiger 75 Black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6480" y="1038240"/>
            <a:ext cx="9015480" cy="504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680" y="417240"/>
            <a:ext cx="863424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Szenariorechnungen machen Chancen sichtba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77280" y="4352760"/>
            <a:ext cx="1128600" cy="18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819000"/>
            <a:ext cx="2783160" cy="662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82520" y="1527120"/>
            <a:ext cx="4738680" cy="337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3560" y="1146240"/>
            <a:ext cx="1439640" cy="536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49520" y="1322280"/>
            <a:ext cx="2695680" cy="1154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44600" y="1187280"/>
            <a:ext cx="837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Frutiger 75 Black"/>
              </a:rPr>
              <a:t>Vielen Dank für Ihre Aufmerksamkeit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41280" y="2936880"/>
            <a:ext cx="8202600" cy="12654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45200" y="89064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75 Black"/>
              </a:rPr>
              <a:t>Joachim Scho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0280" y="1900080"/>
            <a:ext cx="4673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HypoVereins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Zentralbere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Firmen-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Kommerzielle Immobilien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Am Tucherpar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80538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on +49 (0)89/378-243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ax +49 (0)89/378-33-24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joachim.scholz@hvb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8:49:04Z</dcterms:created>
  <dc:creator/>
  <dc:description/>
  <dc:language>en-US</dc:language>
  <cp:lastModifiedBy> </cp:lastModifiedBy>
  <dcterms:modified xsi:type="dcterms:W3CDTF">2007-09-11T10:32:44Z</dcterms:modified>
  <cp:revision>1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3038333</vt:r8>
  </property>
</Properties>
</file>