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F09-C1B3-4018-A7AE-2DA519DA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F93-5BB5-40EC-9E97-128B5DB3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64A-329C-43C7-9BAD-66E37759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5534-F361-439B-8416-83A85CEC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997F-8571-46C0-9770-CB228A92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2A3A-8457-4B7F-8CC3-97DD3CCD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3E7F-CAE8-4226-A476-FCAF50E7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CE71-D168-40A5-9AF5-D4233878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3B57-10B6-4189-A1E6-04B46785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D1FF-6E71-444F-BB26-70E4308D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5F92-D4C5-4BE2-97F1-4072A007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783-6492-4414-9AF9-B15B903A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5C46-66ED-451D-8750-976C6194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EE46-83D1-4A19-9E92-DB33C8D7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BC43-7BCC-49A8-AAAE-5872F9C5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DCC3-915B-472E-89DD-754A1D7A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02BF-641D-47CA-9B02-395D39C1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FD8D1-E4D8-4017-B3FE-2B055B80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DD579-6C28-46FF-A295-CBF4BEAA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657A8-28E1-4C32-BE30-6CD7513F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DCC0A-7F91-4D4E-9781-7E8087DD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E4016-D678-407D-8A5D-75FAFA62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48C-DF2C-4A29-A193-DD1D17C0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C44E8-79EE-4539-AA1C-66B462D9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A0601-ADDC-4992-91B5-9EBCA61B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CD01-A3A7-481C-A43B-6AB3A016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D64AA-09E9-46A5-958B-3A2F5717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80447-3263-4040-B868-5E22FE52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3D51-3FAF-4047-9AC3-38C7034A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BC181-2F61-404E-9C74-D80F2A87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5AD-13B5-4CE8-BC25-AB139DA3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02792-72CE-4902-9890-EECD274A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380-FCFD-459E-8174-9FE2CE5D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CC603-590D-4BC4-8181-E4575A61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02C1B-0FEE-4E22-B8C4-D1EA1DD0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4673E-8B2C-45AE-A2A1-9D9182D2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0325C-E593-413A-A531-7E981A3E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EEEF7-2CEA-44CD-88ED-F936DD00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B2E9F-DD60-4ED8-AB98-FAE1C137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43FEE-BFDE-4679-AF71-F13D1DFA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4B140-0E1E-45E8-801C-1A44662D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9BA6A-EF5C-4913-B15C-348B9C08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4818C-0BC3-4BF2-99D6-5671109B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AF2-BD24-477D-9767-147EF2AF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C4824-6880-46CA-8695-996A0E72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F8B-32CA-4CAE-A0AC-21D45BAE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B88-65E8-43A6-A4FD-E0099E8C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374-666E-49E6-889E-C6F488BB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2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AFC7-D0A2-451E-8356-B6DB28295551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46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205A-3F8C-403D-A76A-8415B935E81A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33AB-32E0-4E80-8F2D-B8411EE47C78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br>
              <a:rPr sz="3400"/>
            </a:b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How does this work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349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349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349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B51F-F2B4-429E-B822-57F422C40EB6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63280" y="2276280"/>
            <a:ext cx="5722920" cy="11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CA" sz="3000" spc="-1" strike="noStrike">
                <a:solidFill>
                  <a:srgbClr val="d2533c"/>
                </a:solidFill>
                <a:latin typeface="Arial"/>
              </a:rPr>
              <a:t>FINDING</a:t>
            </a:r>
            <a:br>
              <a:rPr sz="3000"/>
            </a:br>
            <a:r>
              <a:rPr b="0" lang="en-CA" sz="3000" spc="-1" strike="noStrike">
                <a:solidFill>
                  <a:srgbClr val="d2533c"/>
                </a:solidFill>
                <a:latin typeface="Arial"/>
              </a:rPr>
              <a:t>EMPIRICAL AND CHEMICAL FORMULAS BY EXPERIMENT</a:t>
            </a:r>
            <a:endParaRPr b="0" lang="en-US" sz="3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766520" y="3668760"/>
            <a:ext cx="5553000" cy="13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Chemistry 11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Ms. McGrath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2533c"/>
                </a:solidFill>
                <a:latin typeface="Arial"/>
              </a:rPr>
              <a:t>Finding Empirical and Chemical Formulas</a:t>
            </a:r>
            <a:br>
              <a:rPr sz="2800"/>
            </a:br>
            <a:r>
              <a:rPr b="0" lang="en-CA" sz="2800" spc="-1" strike="noStrike">
                <a:solidFill>
                  <a:srgbClr val="d2533c"/>
                </a:solidFill>
                <a:latin typeface="Arial"/>
              </a:rPr>
              <a:t>by Experiment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We know how to find percentage composition of a compound using its chemical formula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Often, the chemical formula is not known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Experimentation is then used to determine the percentage composition, molar mass then the chemical formula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2533c"/>
                </a:solidFill>
                <a:latin typeface="Arial"/>
              </a:rPr>
              <a:t>Finding Empirical and Chemical Formulas</a:t>
            </a:r>
            <a:br>
              <a:rPr sz="2800"/>
            </a:br>
            <a:r>
              <a:rPr b="0" lang="en-CA" sz="2800" spc="-1" strike="noStrike">
                <a:solidFill>
                  <a:srgbClr val="d2533c"/>
                </a:solidFill>
                <a:latin typeface="Arial"/>
              </a:rPr>
              <a:t>by Experiment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292934"/>
                </a:solidFill>
                <a:uFillTx/>
                <a:latin typeface="Arial"/>
              </a:rPr>
              <a:t>Carbon- Hydrogen Combustion Analyzer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An instrument that is used to analyze the amount of hydrogen, carbon and oxygen in important chemical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It determines the percentage composition of compounds that are made up of these three element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br>
              <a:rPr sz="3400"/>
            </a:b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0" name="Content Placeholder 3" descr=""/>
          <p:cNvPicPr/>
          <p:nvPr/>
        </p:nvPicPr>
        <p:blipFill>
          <a:blip r:embed="rId1"/>
          <a:stretch/>
        </p:blipFill>
        <p:spPr>
          <a:xfrm>
            <a:off x="787320" y="2597040"/>
            <a:ext cx="76266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br>
              <a:rPr sz="3400"/>
            </a:b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How does this work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br>
              <a:rPr sz="3400"/>
            </a:b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How does this work?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Compounds containing carbon and hydrogen will burn in a stream of pure oxygen, O2, to produce only carbon dioxide and water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If a sample contains only carbon and hydrogen you can find the mass of the products (CO2 and H2O) separately to determine the mass percent of the compound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6" name="Content Placeholder 3" descr=""/>
          <p:cNvPicPr/>
          <p:nvPr/>
        </p:nvPicPr>
        <p:blipFill>
          <a:blip r:embed="rId1"/>
          <a:stretch/>
        </p:blipFill>
        <p:spPr>
          <a:xfrm>
            <a:off x="1276200" y="2722680"/>
            <a:ext cx="63993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A 1.000 g sample of a pure compound, containing only carbon and hydrogen, was combusted in an analyzer.  The combustion produced 0.6919 g of water and 3.338 g of carbon dioxide. 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Calculate the mass of carbon and hydrogen in the sample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Find the empirical formula of the compound.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20:15:40Z</dcterms:created>
  <dc:creator>Tammy</dc:creator>
  <dc:description/>
  <dc:language>en-US</dc:language>
  <cp:lastModifiedBy>SHS</cp:lastModifiedBy>
  <dcterms:modified xsi:type="dcterms:W3CDTF">2013-10-09T13:56:24Z</dcterms:modified>
  <cp:revision>12</cp:revision>
  <dc:subject/>
  <dc:title>Finding Empirical and Chemical Formulas by Experiment</dc:title>
</cp:coreProperties>
</file>