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6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B46-E656-46FE-B2B7-8B78F8E0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6B4-2D49-4BF6-97F6-925C7DF8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060EB-9E85-48B1-ABDC-6905EA40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1DCFA-2E19-4D93-841E-7DA8CF99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B1BF6-E132-4424-AF2E-2B6E9072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CFB4C-44E7-4C3B-B7F3-E705E659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8AAB5-2D75-4755-A855-3BD7774E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8714E-2354-4DC9-A615-77E29768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F2AC4-B594-4209-A015-4A1D7DD8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E0BDE-BFBE-4915-AD92-9FA7A787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C9079-7D1B-4AF2-9970-48266639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29019-1A29-4EB3-A2A6-30CA9CB1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CA7B-362F-48E5-BCE0-AC07A03F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8EBE0-12D8-4533-9A9B-18AE5B1F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EC990-5A80-4263-AA94-1B948581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B2C16-B3D9-4CC1-B5AC-4893D960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B5C83-B547-437E-8A25-8D97BC9D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3CE47-F35E-442A-8A43-B4CA16F6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00ABC-8469-4E92-8ECE-69D85126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F6A82-9AB3-4C0E-A110-36481998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AB02F-656A-4CAE-B44D-A37D306C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35D33-F5E8-4614-AD69-CB30B490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27395-C660-47FB-8C72-6E561346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506A-F9E3-48F5-B633-C83A2410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CD587-207F-4007-846E-915B5154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295E-FD4A-46A8-9907-387E5236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6FF0-DC81-4AEA-A155-46D1EA1B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59CF-0470-401E-89B5-09746AD6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7764-E529-4856-B08E-A69D64F0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4A79-B705-4401-8216-FC7B6FAB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8F46-ED0C-4712-A388-D060DB32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F83B-5E6E-42FA-AB4E-07BB10CF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FDE-C988-4F5F-B0E3-35CFDC62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BF00-8C81-4679-973D-B9DFEB77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D214-0A14-4B53-80F3-181124B5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5BAA-D96B-469A-BA04-F3A3B6D6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3623-9614-4659-BEFB-C1CA22CF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3791-9828-44EC-81D4-97BDCC75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7C517-0F4D-431C-B2E3-CD9AEFBE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E632C-6093-434F-A0CE-C0CAFAFF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99A41-B9F8-47BC-9886-0F1F37C4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C47F6-1324-4231-B218-4929DCCB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7FD3E-0F05-4092-9AFB-CF117BCB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9A99-3F50-4363-9173-ECA45DE3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67E7E-861F-42A8-8BD7-4E29C166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8F464-6912-4BA5-A4DC-536A0978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318C4-E1EF-4834-A7B4-133FE31C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0D689-1524-43EB-ABA7-BE5DAD96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6D315-9700-4DD6-ACF1-76D33EC3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79FEA-672C-45E0-8C56-6A701291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0E903-5B0B-43F4-8C47-47D2DA98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7AC36-E70C-48AE-9B85-1B64FCA2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81EDE-2613-473B-9706-1768F027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E2491-3C73-4748-9460-EB15D48C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6B2-2C4B-4F67-9D0F-CC972288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AC69E-E39D-4516-87B5-E801E850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66A9D-11B2-4C32-88B9-B576CC59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BC3D4-D7DC-4DD9-BC11-762DE2C4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382CC-DC98-4F0C-B3AF-C676C07C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AE0C1-509E-4B8A-992B-CBA9E61D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49CB5-F5E7-431B-9CFF-DA0A1E1A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20B5E-F760-4E8F-8861-514BF8DC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5C60F-7835-4F92-AA14-C8156587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36338-DC55-403B-AA05-C655515C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83AC8-34C3-4276-BBDB-8179BB6C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F09-BD2B-498E-A19E-F0B09E19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697DE-22B1-4A2D-8134-60223C2E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1BD18-5C99-4BF0-AD52-65888F1A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11665-C9C9-45DF-9C19-C53B6F7D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C34A7-E00C-416C-B2C6-175EDEE7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94E06-28D8-4F5F-A4F0-7C78F263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8A4BD-5BB1-4728-B3EB-5F9EDC27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A159F-FD6A-437A-A21B-09BBFF80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9D3B7-79FB-4517-80A3-AF977A62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FF100-ADAE-4ACB-8C5C-7B9C5CF0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A7BF6-8468-4AE9-B4AE-046C74C2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C09-4174-4F2B-B78D-9DE9B5A0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B8F73-2921-45D9-BABC-EA7620A7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8CF85-0349-49FF-B74F-0874AC28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B755F-9E56-4EBA-B3F9-B0C54545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3D756-2322-4F75-A27F-55218ECA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3E7B5-50A6-473B-96E5-F5AE5EE1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6BFD3-5AF1-4B02-A2D3-2153D471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95726-5266-401E-84F7-29BE078C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E2BA6-CC48-4137-869E-3F737910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3F551-4055-490E-8F32-B35DF11D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8816B-21E5-4E5F-83C2-F3AFA295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1C8-887E-4E0D-8E93-939102B0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0170E-F309-4C4F-8C65-6EF1129C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A401F-5C47-4C13-B8D5-35EDD78C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A7722-0492-467D-A8C0-BD5B3E37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5D4A6-CB10-405F-9FE6-62A64401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49F72-2C02-47EB-B974-1A97B43D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AAC21-570B-4DDF-8FE9-C8F6579C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24990-D1EB-4CF8-88E3-23B1DE32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A912D-5CD8-416C-9B13-5E48F85C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7BF66-4141-4701-B574-34DA4642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88731-1299-4177-A7E8-49D016CD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7B0-3644-401C-AC6F-ED8FF8D9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6DABD-D0FF-4341-A403-899335D5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5A875-50BB-4C20-A8BD-6050E7A0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04AB1-FD04-48F3-A236-64442D77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D573B-FD31-4604-9282-233B4E25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A441F-B8D5-471B-AEEB-C7FB3CA5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CEE74-6581-40D5-A3B3-9B870D90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8C5E9-EB68-4F3E-A454-66F99140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112BF-15AE-4CF1-8178-A85873D8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9C7D4-405F-49D3-8BA9-3AFA029B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134EF-5716-474F-A517-02F4A69B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0971-50DF-4E47-88BE-C818BA1E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9AF40-74A0-4C65-BED7-E5082C51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ED9F5-3C6D-4A18-BFED-7D1F543B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7D341-D169-48DA-BC87-283A2B0C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D3B8E-62EE-4656-98B0-F02C29AF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F8FBC-7EA0-4671-8114-E05B50BF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422F4-D8D1-41C4-876C-3B34183A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5C183-80E0-4DFC-BE51-2653EAF3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D53ED-E788-4E6A-9CFF-65358661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5176F-B865-4A0E-B1EF-2B46392A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BCFCF-0024-4B3C-9D45-ED37DF5C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-29865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211B-EE94-49D5-9CA1-649551724D3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303680" y="54720"/>
            <a:ext cx="2148120" cy="2075040"/>
            <a:chOff x="7303680" y="54720"/>
            <a:chExt cx="2148120" cy="2075040"/>
          </a:xfrm>
        </p:grpSpPr>
        <p:grpSp>
          <p:nvGrpSpPr>
            <p:cNvPr id="39" name=""/>
            <p:cNvGrpSpPr/>
            <p:nvPr/>
          </p:nvGrpSpPr>
          <p:grpSpPr>
            <a:xfrm>
              <a:off x="7303680" y="54720"/>
              <a:ext cx="2148120" cy="2075040"/>
              <a:chOff x="7303680" y="54720"/>
              <a:chExt cx="2148120" cy="207504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303680" y="54720"/>
                <a:ext cx="2148120" cy="1695960"/>
                <a:chOff x="7303680" y="54720"/>
                <a:chExt cx="2148120" cy="16959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7318440" y="434880"/>
                  <a:ext cx="2133360" cy="120348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0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0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037D-73C6-4826-A5CE-EEA6AEEE1F2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743F-6445-47C8-81E3-492790B1657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e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e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e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e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e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e0000"/>
          </a:solidFill>
          <a:ln w="9360">
            <a:solidFill>
              <a:srgbClr val="c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2821-F07E-41E4-B978-0E5115E94CE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9FDB-DBAC-465A-B668-F2FBCFCDE46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B918-E958-4DC3-98D0-07F7317D37C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8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8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8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7A75-B6AD-459B-B5FF-BCFA486EEE2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3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3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2D34-0B2A-4FF0-B008-457F4CCCFDE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8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8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A2F2-2B66-4F37-AEAC-170F6707259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3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5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F55C-3E0C-4913-987D-7D6D8BE40CB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0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-2268360" y="259920"/>
            <a:ext cx="1083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Мусина Раушания Гатуфовн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6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Учитель истории и обществознан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Ġ  Новонадыровской средне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общеобразовательной школы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Альметьевского муниципального район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Общий педагогический стаж 17лет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в данной школе 12 ле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Учитель </a:t>
            </a:r>
            <a:r>
              <a:rPr b="0" lang="en-US" sz="1800" spc="-1" strike="noStrike">
                <a:solidFill>
                  <a:srgbClr val="ccecff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квалификационной категор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Тема аналитической справки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«Формирование и развитие компетентности обучающихс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на уроках истории и обществознания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Технологическая компетентност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Готовность к самообразованию (образованию через всю жизнь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Информационная компетентност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Коммуникативная компетентност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Социальная компетентность (готовность к продуктивному социальному взаимодействию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Готовность делать осознанный и ответственный выбор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604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686800" y="-53074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24000" y="1052640"/>
            <a:ext cx="8603280" cy="4893840"/>
            <a:chOff x="324000" y="1052640"/>
            <a:chExt cx="8603280" cy="4893840"/>
          </a:xfrm>
        </p:grpSpPr>
        <p:cxnSp>
          <p:nvCxnSpPr>
            <p:cNvPr id="587" name="_s109582"/>
            <p:cNvCxnSpPr>
              <a:stCxn id="588" idx="0"/>
              <a:endCxn id="589" idx="2"/>
            </p:cNvCxnSpPr>
            <p:nvPr/>
          </p:nvCxnSpPr>
          <p:spPr>
            <a:xfrm flipV="1" rot="16200000">
              <a:off x="5644440" y="1992960"/>
              <a:ext cx="973080" cy="3011760"/>
            </a:xfrm>
            <a:prstGeom prst="bentConnector3">
              <a:avLst>
                <a:gd name="adj1" fmla="val 11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0" name="_s109581"/>
            <p:cNvCxnSpPr>
              <a:stCxn id="591" idx="0"/>
              <a:endCxn id="589" idx="2"/>
            </p:cNvCxnSpPr>
            <p:nvPr/>
          </p:nvCxnSpPr>
          <p:spPr>
            <a:xfrm flipV="1">
              <a:off x="4625280" y="3012480"/>
              <a:ext cx="3240" cy="973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2" name="_s109580"/>
            <p:cNvCxnSpPr>
              <a:stCxn id="593" idx="0"/>
              <a:endCxn id="589" idx="2"/>
            </p:cNvCxnSpPr>
            <p:nvPr/>
          </p:nvCxnSpPr>
          <p:spPr>
            <a:xfrm flipH="1" flipV="1" rot="5400000">
              <a:off x="2633400" y="1993320"/>
              <a:ext cx="973080" cy="3011760"/>
            </a:xfrm>
            <a:prstGeom prst="bentConnector3">
              <a:avLst>
                <a:gd name="adj1" fmla="val 11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 txBox="1"/>
            <p:nvPr/>
          </p:nvSpPr>
          <p:spPr>
            <a:xfrm>
              <a:off x="3335040" y="1052640"/>
              <a:ext cx="2580840" cy="1960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Диагностик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учебны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достижен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324000" y="3985920"/>
              <a:ext cx="2580840" cy="1960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Успеваемость  и качеств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образования по истор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 txBox="1"/>
            <p:nvPr/>
          </p:nvSpPr>
          <p:spPr>
            <a:xfrm>
              <a:off x="3335040" y="3985920"/>
              <a:ext cx="2580840" cy="1960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% учащихся повысивши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итоговую оценк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6346440" y="3985920"/>
              <a:ext cx="2580840" cy="1960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Успеваемость и качеств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образования по обществознани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8" name=""/>
            <p:cNvGraphicFramePr/>
            <p:nvPr/>
          </p:nvGraphicFramePr>
          <p:xfrm>
            <a:off x="3347280" y="4511160"/>
            <a:ext cx="2592360" cy="1361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7280" y="4511160"/>
                      <a:ext cx="2592360" cy="136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00" name=""/>
          <p:cNvGraphicFramePr/>
          <p:nvPr/>
        </p:nvGraphicFramePr>
        <p:xfrm>
          <a:off x="324000" y="4005360"/>
          <a:ext cx="2592360" cy="151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005360"/>
                    <a:ext cx="2592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270440" y="2809080"/>
            <a:ext cx="2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993366"/>
                </a:solidFill>
                <a:latin typeface="Tahoma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613840" y="3388680"/>
            <a:ext cx="432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6300720" y="4005360"/>
          <a:ext cx="2664000" cy="1512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4005360"/>
                    <a:ext cx="266400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Внеурочная деятельность обучающих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едение кружка  «Юный краевед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Работа с одаренными деть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Привлечение 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исследовательско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деятельност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324000" y="1628640"/>
          <a:ext cx="8951760" cy="14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895176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"/>
          <p:cNvSpPr/>
          <p:nvPr/>
        </p:nvSpPr>
        <p:spPr>
          <a:xfrm>
            <a:off x="0" y="2881800"/>
            <a:ext cx="56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dff"/>
                </a:solidFill>
                <a:latin typeface="Arial"/>
                <a:ea typeface="Times New Roman"/>
              </a:rPr>
              <a:t>Районный тур олимпи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281240" y="1407960"/>
            <a:ext cx="182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4360" y="357336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08000" y="3213000"/>
          <a:ext cx="5067360" cy="2535480"/>
        </p:xfrm>
        <a:graphic>
          <a:graphicData uri="http://schemas.openxmlformats.org/drawingml/2006/table">
            <a:tbl>
              <a:tblPr/>
              <a:tblGrid>
                <a:gridCol w="1079280"/>
                <a:gridCol w="432000"/>
                <a:gridCol w="431640"/>
                <a:gridCol w="319320"/>
                <a:gridCol w="407880"/>
                <a:gridCol w="385920"/>
                <a:gridCol w="487080"/>
                <a:gridCol w="382680"/>
                <a:gridCol w="382680"/>
                <a:gridCol w="380880"/>
                <a:gridCol w="37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/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6/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/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/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лимпиад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вед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Х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ы предприним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ой деятельности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</a:tbl>
          </a:graphicData>
        </a:graphic>
      </p:graphicFrame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 rot="784800">
            <a:off x="5076720" y="4508280"/>
            <a:ext cx="1195560" cy="180000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4"/>
          <a:stretch/>
        </p:blipFill>
        <p:spPr>
          <a:xfrm rot="777600">
            <a:off x="5931000" y="4722480"/>
            <a:ext cx="1152360" cy="181764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5"/>
          <a:stretch/>
        </p:blipFill>
        <p:spPr>
          <a:xfrm rot="759000">
            <a:off x="6877080" y="4581000"/>
            <a:ext cx="1150920" cy="187344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6"/>
          <a:stretch/>
        </p:blipFill>
        <p:spPr>
          <a:xfrm rot="680400">
            <a:off x="7885080" y="4652640"/>
            <a:ext cx="1122480" cy="19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Учитель как классный руководител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-395280" algn="ctr">
              <a:spcBef>
                <a:spcPts val="476"/>
              </a:spcBef>
              <a:buClr>
                <a:srgbClr val="ce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Классный руководитель – это посредник между обществом и растущей личностью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ctr">
              <a:spcBef>
                <a:spcPts val="476"/>
              </a:spcBef>
              <a:buClr>
                <a:srgbClr val="ce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Классный руководитель координатор совместных действии педагогов, семьи и творец повседневной деятельности детей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 rot="20541600">
            <a:off x="495000" y="3251160"/>
            <a:ext cx="2133720" cy="17114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 rot="1111200">
            <a:off x="6532200" y="3468240"/>
            <a:ext cx="2243160" cy="17478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4"/>
          <a:stretch/>
        </p:blipFill>
        <p:spPr>
          <a:xfrm>
            <a:off x="6084720" y="4941720"/>
            <a:ext cx="2433960" cy="175896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5"/>
          <a:stretch/>
        </p:blipFill>
        <p:spPr>
          <a:xfrm>
            <a:off x="468360" y="4846680"/>
            <a:ext cx="2158920" cy="18270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6"/>
          <a:stretch/>
        </p:blipFill>
        <p:spPr>
          <a:xfrm>
            <a:off x="3132000" y="3284640"/>
            <a:ext cx="2376720" cy="18208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7"/>
          <a:stretch/>
        </p:blipFill>
        <p:spPr>
          <a:xfrm>
            <a:off x="2987640" y="5103720"/>
            <a:ext cx="2664000" cy="17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временные образовательные технолог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спользование  компьютерных технологии на уроках истории и обществознания делает труд педагога эффективны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ождает интерес к знаниям, дает возможность ученику самостоятельно усвоить учебный материа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беспечивает  учащихся необходимой информацией, способствует формированию саморазвития и самопозна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звивает творческий и интеллектуальный потенциал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бобщение и распространение педагогического опыта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24000" y="2361960"/>
            <a:ext cx="8712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2004/2005 учебн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ткрытый урок в 5 классе для директоров школ Альметьевского района и г. Альметьевск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2005/2006 учебн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е на семинаре РМО учителей истории и обществознания на тему «Интеграция на уроках истории и обществознания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2006/2007учебн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е внеурочное мероприятие для участников семинара РМО учителей истории и обществознания, которая проходила на базе Новонадыровской средней общеобразовательной школ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е перед слушателями ИНПО г. Набережные Челны на тему: «Краеведение в системе работы учителя истории»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2007/2008 учебн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муниципальном конкурсе «Учитель года»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2008/2009 учебн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заседании круглого стола по теме «Инновационная деятельность учителя истории и обществознания» в ходе региональных курсов повышения квалификации учителей истории и обществозна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Публик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здательстве «Открытый урок» г.Казань вышли  публикации: «Страна большого Хапи»- февраль 2007 г.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 чем говорит таинственный сундук?»- май 2007г.( на татарском языке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нкур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24000" y="2017800"/>
            <a:ext cx="466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В 2006/2007 учебном году УО Альметьевского муниципального района  был объявлен  районный конкурс на «Лучший кабинет истории». Я приняла участие в конкурсе и была награждена дипломом УО в номинации «За инновационный подход при организации и проведении урочной и внеурочной деятельности»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В 2007/2008 учебном году принимала участие в муниципальном конкурсе «Учитель года»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В 2008 году участвовала в муниципальном этапе Республиканского конкурса среди семей Республики Татарстан «Гордость Татарстана» номинация «Трудовая династия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1873080" cy="252108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7054920" y="3933720"/>
            <a:ext cx="1909800" cy="251964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3"/>
          <a:stretch/>
        </p:blipFill>
        <p:spPr>
          <a:xfrm>
            <a:off x="5435640" y="1773360"/>
            <a:ext cx="277344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вышение квалифик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вышение своей квалификации -это стремление учителя к постоянному повышению своей профессиональной компетентности.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0 году повышала  квалификацию а ИПКРО г.Казань по теме «Новые технологии в изучении предметов образовательной области «Обществознание».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1 году аттестовалась на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квалификационную категорию по должности «учитель»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2 году проходила курсы повышения при ИНПО г. Набережные Челны по проблеме «Методическая система учителя образовательной области «Обществознание»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3 году прошла обучение в ИПКРО г. Казань на курсах «Дидактическая система использования культурно-нравственных ценностей мировых религий в общеобразовательной школе»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6 году  успешно прошла аттестацию на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валификационную категорию по должности «учитель».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7 году прошла курсы по теме «ИКТ в педагогической деятельности», которую организовали Региональный координационный центр и ММЦ Альметьевского муниципального район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8 году прошла обучение в ИНПО г. Набережные Челны РТ по теме «Актуальные вопросы исторического и обществоведческого образования в старшей (полной)школе»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7:37:34Z</dcterms:created>
  <dc:creator>User</dc:creator>
  <dc:description/>
  <dc:language>en-US</dc:language>
  <cp:lastModifiedBy>Customer</cp:lastModifiedBy>
  <dcterms:modified xsi:type="dcterms:W3CDTF">2010-05-29T05:44:42Z</dcterms:modified>
  <cp:revision>53</cp:revision>
  <dc:subject/>
  <dc:title>Мусина Раушания Гатуфовна</dc:title>
</cp:coreProperties>
</file>