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A398-9B05-467C-9274-8FF62EACFDEC}" type="datetime">
              <a:rPr b="0" lang="en-US" sz="1200" spc="-1" strike="noStrike">
                <a:solidFill>
                  <a:srgbClr val="000000"/>
                </a:solidFill>
                <a:latin typeface="Verdana"/>
              </a:rPr>
              <a:t>07/30/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20C2-5CA5-4232-B63D-F7D7740AD4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33F1-7899-40D5-A857-9BE017389AB8}"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2C12-0F1F-4D9A-8BE3-16E15D5CA3D2}"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2E5B3-BE89-495A-9D14-82BC41959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8C066-C30A-4EB6-A86D-FEB6FBF9D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F5881-02CF-43FA-B793-61E78021E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3C1CD-5CDF-44DD-BFD4-7518B964D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05F29-6A2D-4D59-A122-30B02E5E2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6684E-CC8F-4347-BFC1-A7C225B41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584D1-9F78-4DFA-8ABE-DA1DBF9D3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01308-5375-472E-B4C6-A351150DB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95B80-8B57-41B9-95AE-D7D05575C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E6BAD-DC7C-4EC2-A140-2AC5273FD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3A034-9D10-44BF-A60E-7632C637A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05D2-0946-4E72-9A80-27DD7BA3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9EED0-F9EF-4877-ABFA-0FECCFB88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E052-387D-4371-9DFD-5E10C13E3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89BC4-ED6B-43F5-9780-DF77EF27C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EF57B-6162-4034-870F-DBEF90DA5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6EDB2-3C45-4C48-811A-F8072FC16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74883-FA7A-4516-9736-4AD391DE1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9DA1-9E46-461C-BAF0-49A45635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AEBA-FFE0-49EF-8527-3B3CFE559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4E3F7-A5AB-451E-AABA-653199B5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2F454-150D-4E99-BEED-7E2B77AFC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51D9-33B6-4D51-8493-9964BC32A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AE24-8AF2-4AFC-8326-2A0EAEC94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6256-F2AA-4292-B8C3-5EE78D2EB4CF}" type="datetime">
              <a:rPr b="0" lang="en-US" sz="1200" spc="-1" strike="noStrike">
                <a:solidFill>
                  <a:srgbClr val="000000"/>
                </a:solidFill>
                <a:latin typeface="Verdana"/>
              </a:rPr>
              <a:t>07/30/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B320-0F9C-4CC2-9FA1-458F3BAA20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0430-B463-4285-8909-4599D55857E9}" type="datetime">
              <a:rPr b="0" lang="en-US" sz="1200" spc="-1" strike="noStrike">
                <a:solidFill>
                  <a:srgbClr val="eaeaea"/>
                </a:solidFill>
                <a:latin typeface="Verdana"/>
              </a:rPr>
              <a:t>07/30/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4C6A-5C61-449F-979E-2F3684E6CF1E}"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