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D7A7-70D5-4DC7-A740-4909CAE19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5204-7C38-49AC-BBBF-D2C187275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18BE-D79A-4E43-AE5B-23CB03F9D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24EA-727C-4C0B-82C8-9087D0A9F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69891-ED9E-44FB-BCF7-03D621456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87914-CDB0-4069-BCBF-0ADE05A0F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E0141-B692-4B8D-B117-E8384006C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598CF-19F8-42FA-9D88-7113678EB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A64B7-2F6F-4DD1-884E-49FF1A2DA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5B2C4-E176-44EA-A53F-A12AA4D76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1A665-8A80-409F-934D-AC3EAF51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3DA2-0DE6-4D72-A249-F8BC3FA22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9DBCF-7B35-4E63-A53A-8DCF668C6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093CC-8D65-42F2-853E-30C99937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F9908-0BB6-4733-8514-69F9001FA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2BBA6-A599-40B3-B54F-117906A32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22FCE-89E8-4ABA-90F2-D5895C9A8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116F-E8FD-4CFE-AACE-EAD38F4AD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FCDC-47D4-43FD-B0AE-757F52B99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B27D-17B9-4CA8-9E6B-BC12C0FDF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86F5-5DF1-413E-A5EF-5FB337A25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C952-0F8C-4BBB-A5B0-C014B7A04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4DC8-5290-46AC-9C49-C0F7C21F2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E3B2-CE7C-46DA-959D-E4D865949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9D4F4-EE71-4F1D-97D9-DACC0886B8DB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4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6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0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691A4-BDA5-4D82-8254-08FBE6965D71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184880" cy="47448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053360" y="543852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区间套还可表达为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14400" y="539640"/>
            <a:ext cx="7304040" cy="47134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85800" y="5259240"/>
            <a:ext cx="7677000" cy="6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24040" y="762120"/>
            <a:ext cx="7840440" cy="49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6638760" cy="48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62120" y="773280"/>
            <a:ext cx="6997680" cy="50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49160" y="533520"/>
            <a:ext cx="7937640" cy="43718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85800" y="4800600"/>
            <a:ext cx="8080200" cy="11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97040" y="758880"/>
            <a:ext cx="6975360" cy="51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24000" y="1765440"/>
            <a:ext cx="82087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28640" y="692280"/>
            <a:ext cx="7805880" cy="52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97040" y="523800"/>
            <a:ext cx="7813440" cy="46198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839880" y="5029200"/>
            <a:ext cx="783756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914400" y="782640"/>
            <a:ext cx="688500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50760" y="812880"/>
            <a:ext cx="692172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838080" y="671400"/>
            <a:ext cx="7461360" cy="51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85800" y="360360"/>
            <a:ext cx="7921800" cy="45165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762120" y="4962600"/>
            <a:ext cx="689760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838080" y="835200"/>
            <a:ext cx="7255080" cy="50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38080" y="657360"/>
            <a:ext cx="738828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838080" y="698400"/>
            <a:ext cx="7156440" cy="50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73080" y="1038240"/>
            <a:ext cx="641664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33520" y="735120"/>
            <a:ext cx="6946920" cy="51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8280360" cy="472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429000" y="5321160"/>
            <a:ext cx="554508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7543800" cy="52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17092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63480" y="674640"/>
            <a:ext cx="6956640" cy="49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4T04:37:25Z</dcterms:created>
  <dc:creator>lwl</dc:creator>
  <dc:description/>
  <dc:language>en-US</dc:language>
  <cp:lastModifiedBy>lk</cp:lastModifiedBy>
  <dcterms:modified xsi:type="dcterms:W3CDTF">2005-06-30T00:58:53Z</dcterms:modified>
  <cp:revision>21</cp:revision>
  <dc:subject/>
  <dc:title>幻灯片 1</dc:title>
</cp:coreProperties>
</file>